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4E7-8F54-4E28-B760-70C36E82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BD5-3CEF-4FC4-AC83-E27E95D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5B6-91E2-458B-B26A-8B4AE257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216-8F72-4A17-9814-9A671C4C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9E8-010E-4BD5-AC54-0656808D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4FA-CFCE-48D6-AE29-367405BC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C18-54DC-4BE8-96DE-AF3926C1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0B5-D1B8-4FB2-A52A-FFD03F9D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198-897B-480D-B413-6CC5597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574-BED3-4897-A0C3-08E41CB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33B-66B1-4834-BF7F-8993A03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177-6F10-4AF6-9C62-4DF3B816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0EF9E88-22D4-41EF-BC7A-C797DFD15456}" type="slidenum">
              <a:rPr b="0" lang="bg-BG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hyperlink" Target="http://www.eufunds.b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8228160" y="6164280"/>
            <a:ext cx="93492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9371160" y="6300720"/>
            <a:ext cx="1160280" cy="425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60400" y="35164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ГОДИШЕН ДОКЛ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ЗА ИЗПЪЛНЕНИЕ НА ОПТП за 2012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5"/>
          <a:stretch/>
        </p:blipFill>
        <p:spPr>
          <a:xfrm>
            <a:off x="3971880" y="1508040"/>
            <a:ext cx="2959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98720" y="1376280"/>
            <a:ext cx="74167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2011 г. стартира изпълнението от УО на проект „Извършване на средно-срочна (междинна) оценка на ОПТП (проект № 0089-УО-1.4)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изпълнение изискванията на чл. 48 (1) от Регламент (ЕО) №1083/2006 и Плана за оценка на ОПТП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08.08.2012 г. - сключен договор с ЕКОРИС САУТ ИЙСТ ЮРОП ЕООД за извършване на средно-срочна  оценка на ОПТП /вследствие на проведена процедура за избор на външен изпълнител по реда на ЗОП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10.12.2012 г. - предаден проект на окончателен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21.12.2012 г. - УО изпрати своите коментар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началото на 2013 г. окончателният доклад е одобрен от УО. Той подкрепя инициираните действия от страна на УО за промяна на програмата от месец Ноември 2012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ФОРМАЦИЯ И ПУБЛИ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422440" y="1039680"/>
            <a:ext cx="8180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динен информационен портал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eufunds.bg</a:t>
            </a:r>
            <a:r>
              <a:rPr b="1" i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– създадени самостоятелни страници за всеки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 създадена информационна среда за обмен на информация между ОИЦ, ЦИКО и ЦИО в реално врем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интерактивна административна карта на България с хиперлинкове към 28-те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купен самостоятелен сървър за хостване на порт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изградена система за управление на бане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секц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al Media Newsroom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нова подстраница  „Нов програмен период 2014-2020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преводи на английската секц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актуализиране на профилите в социалните мреж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book, twitter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Tub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централно нив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Междуведомствена работна група на служителите по информация и публичност на оперативните програм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реведе 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седа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местно ниво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7-те ОИЦ в страната, към края на 2012 г.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72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тители са потърсили информация, регистр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итвания в мрежата; организ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91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нформационни събития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6 38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астници и са направен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5 95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бликации в медии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нтрален информационен и координационен офис (ЦИКО)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специализирани обучения, 2 координационни срещи, 5 учебни посещения за обмяна на опит,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съответно в Брюксел, Латвия и Полш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служителите в ОИЦ. Служители на ЦИКО са направили над 200 посещения в ОИЦ.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рия от публични представяния на центровете по места съвместно с министъра по управление на средствата от ЕС и представители от 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вропейски информационни мреж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ериода 10 и 11 май 2012 г. във Варшава се проведе Деветата официална среща на членовете на мрежата ИНФОРМ на ГД „Регионална и урбанистична политика” на ЕК – участваха 4 представители от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ъбития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Близо 70 събития сред кои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торо 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ложение „Европа за нас” 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юн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 г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3 обучения на бенефициентите по ОПТП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ен конкурс за детска рисунка „Как искам Европейският съюз да промени моя град”, Работни посещения на министъра и представители на ЕК в ОИЦ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ОПТП (КН на ОПТП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сето редовно заседание на КН на ОПТП на 18.06.2012 г. 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десето редовно заседание на КН на ОПТП. На 27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НСР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дмо заседание на 16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6960" cy="24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44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144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5580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3265200" y="51084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400" spc="-1" strike="noStrike">
                <a:solidFill>
                  <a:srgbClr val="f58220"/>
                </a:solidFill>
                <a:latin typeface="Calibri"/>
              </a:rPr>
              <a:t>БЛАГОДАРЯ ЗА ВНИМАНИЕ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1" descr="\\Cm_ldb\optp-docs\INFORMATION&amp;PUBLICITY\00_OPTA_Visual Identity\pics\no marks\cub7.png"/>
          <p:cNvPicPr/>
          <p:nvPr/>
        </p:nvPicPr>
        <p:blipFill>
          <a:blip r:embed="rId3"/>
          <a:stretch/>
        </p:blipFill>
        <p:spPr>
          <a:xfrm>
            <a:off x="4087800" y="1116000"/>
            <a:ext cx="252108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4"/>
          <a:stretch/>
        </p:blipFill>
        <p:spPr>
          <a:xfrm>
            <a:off x="4608360" y="4140360"/>
            <a:ext cx="1479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682720" y="114624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оговорен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редства – 82 101 043,92 лв.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73,8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Реално изплатени средства – 37 812 367,62 лв. -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34,03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ртифицирани средства – 25 318 629,10 лв. –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2,7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c000"/>
              </a:buClr>
              <a:buFont typeface="Calibri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Chart 11" descr=""/>
          <p:cNvPicPr/>
          <p:nvPr/>
        </p:nvPicPr>
        <p:blipFill>
          <a:blip r:embed="rId4"/>
          <a:stretch/>
        </p:blipFill>
        <p:spPr>
          <a:xfrm>
            <a:off x="666720" y="2771640"/>
            <a:ext cx="444672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Chart 12" descr=""/>
          <p:cNvPicPr/>
          <p:nvPr/>
        </p:nvPicPr>
        <p:blipFill>
          <a:blip r:embed="rId5"/>
          <a:stretch/>
        </p:blipFill>
        <p:spPr>
          <a:xfrm>
            <a:off x="5318280" y="2771640"/>
            <a:ext cx="478152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21320" y="6437160"/>
            <a:ext cx="176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на ОПТП в л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6684840" y="6437160"/>
            <a:ext cx="25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в процентно съотнош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06360" y="2941560"/>
            <a:ext cx="1015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86120" y="1154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1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дпомагане реализирането на дейностите на структурите на централно и местно ниво. Мерки за изграждане на капацитета на институциите, работещи по Структурните фондове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162000" y="2700360"/>
            <a:ext cx="478620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86360" y="2556000"/>
            <a:ext cx="5423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Текучеството на персонала сред бенефициентите за 2012 г.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14,46 %., т.е е намаляло спрямо нивата от 2011 г. (16,33%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Дейности  з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учения, семинари, заседания, срещи за обмяна на опит и други подобни мерки за изграждане и укрепване на административния капацитет на централно ниво се изпълняваха успешно и през 2012 г. с висока степен на удоволетвореност  (над 90 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а проведени и посетени 129 различни обучителни курсове и семинари в областта на регионалната политика на ЕС и управлението на СКФ. Обучени са 296 служители на централната администрация, участващи в процесите по управление, координация и контрол на структурните инструменти в Бълга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898720" y="1116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2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опълнително разработване и подпомагане на функциите на ИСУН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8400" y="2506680"/>
            <a:ext cx="54230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о приоритетна ос две се изпълняват проектите на бенефициента ЦКЗ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ддържане и обновяване на информационната среда за работа н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сигуряване на развитието и функционирането на 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Разширяване функционалността на Информационната система за управление и наблюдение средствата от ЕС (ИСУН) чрез разработване 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илагане на Географска информационна система (ГИС)”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то на проект „Създаване и поддръжка на помощна система (Help Desk) за потребителите на ИСУН“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378000" y="255600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59200" y="118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3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Популяризиране на европейската кохезионна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литика и нейните цели в България и осигуряване на обща и статистическа информация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491080" y="2771640"/>
            <a:ext cx="49053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риключи изпълнението на проект на бенефициента ЦКЗ „Подпомагане на цялостния процес по изработване на новите програмни стратегически документи на Република България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ето на проект на бенефициента ЦКЗ „Документален фонд на оперативните програми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 изпълението на проект на бенефициента ЦИО „Популяризиране на добри практики по Оперативните програми, съфинансирани от Структурните фондове и Кохезионния фонд на Европейския съюз, и подготовката на програмен период 2014-2020 г.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306360" y="2629080"/>
            <a:ext cx="51847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ДЕНТИФИЦИРАНИ СЪЩЕСТВЕНИ ПРОБЛЕ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 ПРЕДПРИЕТИ МЕРКИ ЗА РЕШАВАНЕТО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306360" y="2629080"/>
            <a:ext cx="2136960" cy="122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рганизиране и провеждане на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306360" y="3997440"/>
            <a:ext cx="2133720" cy="1469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втарящи се пропуски по отношение на отчитането на разход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06360" y="5629320"/>
            <a:ext cx="2131920" cy="1103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навременно изпълнение на дейностите по проект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3402000" y="1332000"/>
            <a:ext cx="712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 на предварителен контрол на документ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обществени поръчки по проекти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3402000" y="2079720"/>
            <a:ext cx="7129440" cy="83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Регулярни срещи с бенефициенти, за обсъждане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облеми при изпълнение на проектите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ъзможности за тяхното разрешав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3402000" y="3060720"/>
            <a:ext cx="7129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звършени модификации по конкретни проек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птимизиране на дейнос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3402000" y="3852720"/>
            <a:ext cx="7129440" cy="5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ът на верификация на разходите в УО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3402000" y="4500720"/>
            <a:ext cx="71294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зготвя регулярно искания за средства към НФ с оглед ускоряване процеса на възстановяване на средствата към бенефицие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3402000" y="5580000"/>
            <a:ext cx="712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дентифицира нов кръг от бенефициен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нициира прехвърляне на средства между ПО на програм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този начин осигурява необходимия финансов ресурс за новите бенефициенти и договаряне на целия ресурс по ОП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66"/>
          <p:cNvCxnSpPr>
            <a:endCxn id="100" idx="1"/>
          </p:cNvCxnSpPr>
          <p:nvPr/>
        </p:nvCxnSpPr>
        <p:spPr>
          <a:xfrm flipV="1">
            <a:off x="2445840" y="1654920"/>
            <a:ext cx="956520" cy="1724760"/>
          </a:xfrm>
          <a:prstGeom prst="straightConnector1">
            <a:avLst/>
          </a:prstGeom>
          <a:ln w="1908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07" name="Straight Arrow Connector 68"/>
          <p:cNvCxnSpPr>
            <a:stCxn id="99" idx="3"/>
            <a:endCxn id="103" idx="1"/>
          </p:cNvCxnSpPr>
          <p:nvPr/>
        </p:nvCxnSpPr>
        <p:spPr>
          <a:xfrm flipV="1">
            <a:off x="2437920" y="4115520"/>
            <a:ext cx="964440" cy="20660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Straight Arrow Connector 71"/>
          <p:cNvCxnSpPr>
            <a:endCxn id="101" idx="1"/>
          </p:cNvCxnSpPr>
          <p:nvPr/>
        </p:nvCxnSpPr>
        <p:spPr>
          <a:xfrm flipV="1">
            <a:off x="2461680" y="2496600"/>
            <a:ext cx="940680" cy="220752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09" name="Straight Arrow Connector 72"/>
          <p:cNvCxnSpPr>
            <a:stCxn id="99" idx="3"/>
            <a:endCxn id="102" idx="1"/>
          </p:cNvCxnSpPr>
          <p:nvPr/>
        </p:nvCxnSpPr>
        <p:spPr>
          <a:xfrm flipV="1">
            <a:off x="2437920" y="3378960"/>
            <a:ext cx="964440" cy="2802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Straight Arrow Connector 68"/>
          <p:cNvCxnSpPr>
            <a:stCxn id="99" idx="3"/>
          </p:cNvCxnSpPr>
          <p:nvPr/>
        </p:nvCxnSpPr>
        <p:spPr>
          <a:xfrm flipV="1">
            <a:off x="2438280" y="2496240"/>
            <a:ext cx="936000" cy="36853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Straight Arrow Connector 68"/>
          <p:cNvCxnSpPr>
            <a:stCxn id="99" idx="3"/>
          </p:cNvCxnSpPr>
          <p:nvPr/>
        </p:nvCxnSpPr>
        <p:spPr>
          <a:xfrm flipV="1">
            <a:off x="2438280" y="5029920"/>
            <a:ext cx="936000" cy="11516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2" name="Straight Arrow Connector 68"/>
          <p:cNvCxnSpPr>
            <a:stCxn id="99" idx="3"/>
            <a:endCxn id="105" idx="1"/>
          </p:cNvCxnSpPr>
          <p:nvPr/>
        </p:nvCxnSpPr>
        <p:spPr>
          <a:xfrm flipV="1">
            <a:off x="2437920" y="6156000"/>
            <a:ext cx="964440" cy="259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3" name="Straight Arrow Connector 71"/>
          <p:cNvCxnSpPr>
            <a:endCxn id="103" idx="1"/>
          </p:cNvCxnSpPr>
          <p:nvPr/>
        </p:nvCxnSpPr>
        <p:spPr>
          <a:xfrm flipV="1">
            <a:off x="2422080" y="4117320"/>
            <a:ext cx="980280" cy="58788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052720" y="71215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593640" y="2151000"/>
            <a:ext cx="97948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ffc000"/>
                </a:solidFill>
                <a:latin typeface="Calibri"/>
              </a:rPr>
              <a:t>ОДИТИ НА СИСТЕМ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- извършен от ИА ”ОСЕС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о ОПТП за оценка на Ключово изискване 7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Предприемане на превантивни и коригиращи действия в случай на установени при изпълнени одити системни грешки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Оценката по целите на одитния ангажимент е 2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Работи, но са необходими някои подобрения”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3 констатации и препоръки по тях, от които една със средно и две с ниско ниво на значим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Четвъртият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е извършен в периода септември 2012 – януари 2013 г, като докладите (предварителен и окончателен) са изготвени и предоставени на УО на ОПТП през 2013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186000" y="684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ДИТИ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И ПРОВЕРКИ НА МЯ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500040" y="255600"/>
            <a:ext cx="235260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593640" y="4529160"/>
            <a:ext cx="972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ccc00"/>
                </a:solidFill>
                <a:latin typeface="Calibri"/>
              </a:rPr>
              <a:t>ОДИТ НА ОПЕРАЦИИТЕ 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- извършен от ИА ”ОС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ят одит на операци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за увереност че разходите, декларирани пред ЕК /1.01.2011 – 31.12.2011/ са верни и транзакциите са законосъобразни и редо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93640" y="5543640"/>
            <a:ext cx="9794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ПРОВЕРКИ НА МЯСТО НА СЕРТИФИЦИРАЩИЯ О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роверки на място на Сертифициращия орган по верифицираните разходи от УО през 2012 г. – констатирани пропуски по прилагането на ЗОП и такива от организационен характер. Наложени финансови корекции и утвърдени изменения в Процедурния наръчник на ОПТП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ЗМЕНЕНИЕ В КОНТЕКСТА/СЪЩНОСТ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 ИЗПЪЛНЕНИЕТО НА ОПЕРАТИВНАТА ПРОГРА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8720" y="1663560"/>
            <a:ext cx="7561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ДОБРЕНО ПРЕДЛОЖЕНИЕ ЗА ИЗМЕНЕНИЕ НА </a:t>
            </a: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ПТП /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ЕДИНАДЕСЕТО РЕДОВНО ЗАСЕДАНИЕ НА КН НА ОПТП - 27.11.2012 г.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1</a:t>
            </a:r>
            <a:r>
              <a:rPr b="1" i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. Прехвърляне на средства между осите на ОПТП, 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сигуряване на финансов ресурс за изпълнението на проектите по ПО 1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7 151 887,77 лв. от ПО 2 в ПО 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1 885 704,45 лв. от ПО 3 в ПО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2. Определяне на допълнителни конкретни бенефициенти по ПО 1 и създадаване на нови мерки на подкрепа 10 и 11 за тях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Националното сдружение на общините в Република България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Д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рекция „Финанси на реалния сектор” в Министерството на финансит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 програмния документ са отразени необходимите про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скането за изменение на ОПТП е изпратено на 13.02.2013 г. до Европейската комисия чрез системата SFC 2007. Очаква се одобрението от страна на 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МОНИТОР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825640" y="1312920"/>
            <a:ext cx="763452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УО на ОПТП осъществява мониторинг на изпълнението на проектите на базата на регулярно докладване за напредъка от страна на бенефициентите на всяко календарно тримесеч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личие на значителни закъснения и неспособност за реализация на проектите в предвидените сроков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Проверката на напредъка по проектите е да се установят своевременно потенциални или възникнали рискове и проблем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вършен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37 проверки „на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място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", при които не са констатирани неред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звършени общо 16 проверки „на място” при бенефициенти общини, 12 от които са извършени след приключване на строително монтажните работи в областните информационни центро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нформацията, събрана и проверена от УО на проектно ниво се въвежда в ИСУ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ползваната система LOTHAR дава възможност за своевременно предприемане на корективни мерки при проблеми в изпълнениет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блюдението на ОПТП се осъществява оперативно в партньорство със Съвета за координация при управлението на средствата от ЕС и с членовете на КН на ОПТ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6:03Z</dcterms:created>
  <dc:creator>Емилия Герджикова</dc:creator>
  <dc:description/>
  <dc:language>en-US</dc:language>
  <cp:lastModifiedBy>Емилия Герджикова</cp:lastModifiedBy>
  <dcterms:modified xsi:type="dcterms:W3CDTF">2013-05-10T14:06:22Z</dcterms:modified>
  <cp:revision>171</cp:revision>
  <dc:subject/>
  <dc:title>PowerPoint Presentation</dc:title>
</cp:coreProperties>
</file>